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A71-A830-404C-9735-655B3880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C59-ECEF-4EE3-8C06-50FE965B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A22-05F5-4F3B-814B-FCF96FA9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8ED-5A5B-4E12-8EF6-F1C28BFD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64A0-3DCD-491B-B025-19073B2F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FE6A-704C-427F-B827-18FE657E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7944-13DB-49B3-B8CE-A67A8818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FC59-3C6A-4F92-9101-5B3419E6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1BC6-1196-41DD-81F5-3BE14A51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8DDC-3884-44BC-8F7E-5C4E8FC0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6F85-0658-457A-9FDD-69164BA7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34E-96BB-46D4-9939-99C7CC1A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BF43-E450-466D-8C36-64BEEDD0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0263-2D7D-4C65-B4B3-477F8FD8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95A6-0C1B-4523-BE72-9971CFF1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2BF6-E466-49D3-A52A-B21BE8DD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7847-0048-4585-8F9F-2232E6BF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504-CEE2-44ED-8C1D-83D68E15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784-2ADF-4109-A7F2-468E666A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7E9-B1E1-46AC-9F2D-A0E17FEF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997-B01F-4F3F-96EE-207FC8B3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997-B516-4159-A127-DDD83D3E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2F40-A549-4CC7-961A-C0169A89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3D19-7B09-448F-9D06-EE3C68D7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A7D1F-578A-4A55-86D5-104732042BF2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EC8C5-BA31-4526-90A3-5635F66499ED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DF98A-755B-4B06-8F7D-6F02E13A6070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81654-C958-40CB-926B-3AF85B9156D4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ff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Placeholder 2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8077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nida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3680" y="1676520"/>
            <a:ext cx="8127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2c7c9f"/>
                </a:solidFill>
                <a:uFillTx/>
                <a:latin typeface="News Gothic MT"/>
              </a:rPr>
              <a:t>Miscellaneous:</a:t>
            </a: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adial Symmetr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coelom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germ cell lay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980720"/>
            <a:ext cx="8042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 skelet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uscle cells &amp; jet propul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1828800"/>
            <a:ext cx="804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erve net (no brain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sexual: budding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xual: hermaphrodi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astrovascular cavity (sac) –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                         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single opening = mouth &amp; an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pulsion from GVC (gastrovascular cavity) + diffusion of wastes from individual cel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23:05:36Z</dcterms:created>
  <dc:creator>Keith or Sherri Holmgren</dc:creator>
  <dc:description/>
  <dc:language>en-US</dc:language>
  <cp:lastModifiedBy>NHS NPS</cp:lastModifiedBy>
  <dcterms:modified xsi:type="dcterms:W3CDTF">2012-05-15T12:39:00Z</dcterms:modified>
  <cp:revision>3</cp:revision>
  <dc:subject/>
  <dc:title>Animal Phyla Chart</dc:title>
</cp:coreProperties>
</file>